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03B-36FE-4170-92A1-5C54D9CD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B7D-3A63-419E-A458-1A3602D0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997-E66A-437F-B807-ABE205A9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C86-48F5-4AC7-872F-AAD4A1B9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7F18-9BF5-4441-BA03-915E82FA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852-DBE0-4084-A4DE-838B4E83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68BC-86E5-4BBB-AE73-12F5637D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2ACF-F933-4A00-9025-B524A73C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E980-BE60-460C-A69D-FF824FB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F391-6C78-43FE-A5A3-690A82A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2A7F-3DB6-49FD-A1E5-0967070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3AD-321D-423C-A41D-C065FD6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CD6B-D037-4CF8-A10B-65B901E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03BC-1CD5-4F38-834E-76C3B90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DC95-15A4-4DA2-A0DC-FBD9F0C2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52B0-727A-4FFA-B9FC-780468CA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68C3-B471-4244-A309-786DF617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344-E0E5-4AD2-B646-F01C7FBA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B43-4AC3-4ACB-8C0F-2C66CED5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84E-121D-421A-9F3B-1A3C4A38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756-14BB-41A7-96E8-FA3E95E0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574-E2A3-4D0C-A01A-507C558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572-D00B-4A7B-ACF0-096CC566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4C2-C4BA-4271-AE00-F248679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60F5-B186-4696-8737-ED90C478E17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126-65A9-403A-9D45-8521C5F16E0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LE PROSTOKĄ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JEDNOSTKI P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000" y="119340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455292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32000" y="2327400"/>
          <a:ext cx="276552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327400"/>
                    <a:ext cx="27655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132000" y="2338560"/>
          <a:ext cx="2216160" cy="14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338560"/>
                    <a:ext cx="2216160" cy="14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000" y="95364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75496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97000" y="1673280"/>
          <a:ext cx="498312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673280"/>
                    <a:ext cx="498312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097000" y="1663560"/>
          <a:ext cx="4375080" cy="36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7000" y="1663560"/>
                    <a:ext cx="43750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057680"/>
            <a:ext cx="80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e kwadratu o boku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zyjmujemy za jednostkę po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nazywamy j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ntymetrem kwadratowy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 zapisujemy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81280" y="1989000"/>
          <a:ext cx="13716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89000"/>
                    <a:ext cx="13716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40520" y="3312000"/>
            <a:ext cx="79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e prostokąta obliczamy mnożąc długości sąsiednich boków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9840" y="4347000"/>
            <a:ext cx="71852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e oznaczamy przez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tem pole prostokąta o długości boków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rów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6 cm ·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30 cm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L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22680" y="1267560"/>
            <a:ext cx="71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amy pole prostokąta o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22360" y="2124000"/>
          <a:ext cx="462312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2124000"/>
                    <a:ext cx="46231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3492360" y="5184720"/>
            <a:ext cx="2070360" cy="719280"/>
            <a:chOff x="3492360" y="5184720"/>
            <a:chExt cx="2070360" cy="719280"/>
          </a:xfrm>
        </p:grpSpPr>
        <p:sp>
          <p:nvSpPr>
            <p:cNvPr id="127" name=""/>
            <p:cNvSpPr/>
            <p:nvPr/>
          </p:nvSpPr>
          <p:spPr>
            <a:xfrm>
              <a:off x="3718080" y="52444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 = a ·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184720"/>
              <a:ext cx="2070360" cy="719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5920" y="12675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 pola prostokątów przedstawionych na rysun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11280" y="1989000"/>
          <a:ext cx="2355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989000"/>
                    <a:ext cx="2355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72000" y="1989000"/>
          <a:ext cx="23590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2000" y="1989000"/>
                    <a:ext cx="2359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P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4560" y="1090800"/>
            <a:ext cx="79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ili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cent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d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dec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k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kilo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41824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dnostkami pola są również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hekt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do wyrażania większych obszarów, np.: pola uprawne, działki, duże place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3440" y="527328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hek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0920" y="126936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zupełnij tabelk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57360" y="2214720"/>
          <a:ext cx="5753160" cy="285732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Dług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Szerok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Obw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P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1:07Z</dcterms:modified>
  <cp:revision>66</cp:revision>
  <dc:subject/>
  <dc:title>Slajd 1</dc:title>
</cp:coreProperties>
</file>